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fizer Logo.JPG"/>
          <p:cNvPicPr/>
          <p:nvPr/>
        </p:nvPicPr>
        <p:blipFill>
          <a:blip r:embed="rId3"/>
          <a:stretch/>
        </p:blipFill>
        <p:spPr>
          <a:xfrm>
            <a:off x="8143920" y="6215040"/>
            <a:ext cx="72864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Pfizer Logo.JPG"/>
          <p:cNvPicPr/>
          <p:nvPr/>
        </p:nvPicPr>
        <p:blipFill>
          <a:blip r:embed="rId3"/>
          <a:stretch/>
        </p:blipFill>
        <p:spPr>
          <a:xfrm>
            <a:off x="7429680" y="571680"/>
            <a:ext cx="1071360" cy="6220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2746440" y="6195600"/>
            <a:ext cx="45403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PC Digital Preservation for Health Studies – May, 201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7120" y="2000160"/>
            <a:ext cx="559296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allenges of Digital Preservation in a Changing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578160" y="5072040"/>
            <a:ext cx="323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rew Pi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fizer eArchive Service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 Records Management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923480" y="6357960"/>
            <a:ext cx="47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PC Digital Preservation for Health Studies – May, 201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972160" y="35712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788760" y="1785960"/>
            <a:ext cx="2438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ic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849240" y="6072120"/>
            <a:ext cx="679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my personal views and comments and do not necessarily reflect those of the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2092680" y="42876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siness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85840" y="1357200"/>
            <a:ext cx="7786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increasing shift from hardcopy to electronic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ging workforce and working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ple copies held in a many places and on many media types e.g. cd, dvd, memory sticks and sometimes even olde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ltural, regulatory and legal differences on a global scale e.g. data privacy 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ources both in terms of people and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this all internally and at as low a cost as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2791080" y="42876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cal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14200" y="1143000"/>
            <a:ext cx="8572680" cy="50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liferation of applications both corporate wide and within discip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pid change in the update and use of these ap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individual data files e.g. 2gb per file eight years a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migration from multiple sources, locations, operating systems, database types,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eting business requirements for accessing and viewing the archived data to enable them to meet regulatory and leg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ord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structured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Records that can be formatted to a printable document, e.g., Word, PDF, or text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ructured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Records that require logic or an application to interpret, e.g., oracl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serving the eArch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2"/>
          <p:cNvSpPr/>
          <p:nvPr/>
        </p:nvSpPr>
        <p:spPr>
          <a:xfrm>
            <a:off x="1816920" y="42876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uctured Data Archiv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642960" y="1571760"/>
            <a:ext cx="72151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chive data regardless of application or db type e.g. Oracle, SQL, DB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ng term preservation through archiving to an optimised, compressed file form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chived data accessed by the eArchive itself, business reporting tools e.g. Business Objects or via SQL query to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cannot be modified by end us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naged data access across the arch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naged data retention and destruction process including legal h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ey consider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tool does not fully replicate the source applications look and feel or functiona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797920" y="42876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85840" y="1357200"/>
            <a:ext cx="74293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lobal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rge database with multiple feeds from other 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to external attachments e.g.  21 million scanned documents in tif form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siness requirement to access and print selected images in pdf to meet US FDA requirements in a specific form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ltiple options for long term archiv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chive the current app and maintain the pdf print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vert all tif images to pdf and then arch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tain the current system in a read only state until no longer required as per the corporate records retention poli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42960" y="1357200"/>
            <a:ext cx="71438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well 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pare for technical issues along the wa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ild a list of acceptable archive dev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ation of external attach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ing 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ss of technical and business line subject matter exper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n’t underestimate how long it will take e.g. 120 days for 2.7Tb/700,000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ce the old system is gone – it’s gone! No going back and ensure that the eArchive itself is continually updated and enhanc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tain senior management sup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unicate regularly to system owners/users and prepare them well in adv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516400" y="42876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07:53:30Z</dcterms:created>
  <dc:creator>Dave Hodgson, Mark Burfoot, Layne Johnson</dc:creator>
  <dc:description/>
  <dc:language>en-US</dc:language>
  <cp:lastModifiedBy>DPC 4 Carol</cp:lastModifiedBy>
  <dcterms:modified xsi:type="dcterms:W3CDTF">2011-05-30T11:15:06Z</dcterms:modified>
  <cp:revision>207</cp:revision>
  <dc:subject>PharmaMatrix</dc:subject>
  <dc:title>Integrating Science &amp; Information</dc:title>
</cp:coreProperties>
</file>